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69D-88AA-4EED-9C06-6B5864DD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089-5F58-4B75-937F-1988D192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3A9-C4F3-4455-856E-6B10E1F9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348-21DF-461C-B825-38FDDF43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F62-AE7E-4929-9846-250A13A4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EE4-BA14-4B26-89FF-B2646DB7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586-06EE-4CD7-AC92-3CF56C9A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ED5-64B8-48B7-8EB7-B4FDA8E8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FEE-191A-403B-8F7B-D8226B38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972-39CB-46FA-8761-DB2F6FAC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C58-EE1A-4016-A988-9F235557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0BE-0396-4AB4-ADEB-86EE448D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457E-23FD-4AC9-A806-A6A47262B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bject and Predic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MacOS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cc"/>
                </a:solidFill>
                <a:latin typeface="Arial"/>
              </a:rPr>
              <a:t>A complete sentence has two (2) part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cc"/>
                </a:solidFill>
                <a:latin typeface="Arial"/>
              </a:rPr>
              <a:t>Do you know what these parts are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se 2 sentence parts are called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roadway"/>
              </a:rPr>
              <a:t>Gus and Natali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lay in the band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Marley, Tanner and Briann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rial"/>
              </a:rPr>
              <a:t>practice their cheers.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Ethan and B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cc"/>
                </a:solidFill>
                <a:latin typeface="Arial"/>
              </a:rPr>
              <a:t>work hard at practice.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0866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907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rs. Eva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leased with our work today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8:47:51Z</dcterms:created>
  <dc:creator>Union City Schools</dc:creator>
  <dc:description/>
  <dc:language>en-US</dc:language>
  <cp:lastModifiedBy>Laura McDow</cp:lastModifiedBy>
  <dcterms:modified xsi:type="dcterms:W3CDTF">2010-08-26T00:25:13Z</dcterms:modified>
  <cp:revision>6</cp:revision>
  <dc:subject/>
  <dc:title>    Subject and Predicate</dc:title>
</cp:coreProperties>
</file>